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F6B-BFB7-4BD3-B2FB-8102D3EF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501-0B8B-4ED3-BAAA-4FCD7F2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268-9FAA-4AA1-9064-56163EBF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369-2030-47D6-BEA8-1864D6B4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DD7-5789-4E28-A6E9-410C7D13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F2F4-2C9B-4692-8C52-AFF3EB0E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67C2-69E6-4D2B-8F66-365D8F7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41B-D018-45BB-BB2E-62BF904C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CA7-5685-4487-ADB0-C188155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24E-B202-4F6F-9B42-7E510FE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8F43-8797-431A-A119-98D9893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4F7-60B2-40A0-B112-E99A690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9A55-71D0-435E-8776-50AC47A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3F38-ADF7-49EB-A59A-69DAA86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552-F1D0-4CD2-BE76-8460C640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80E-43E2-4BE9-8BB6-CD940C9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E6DE-53C0-4342-AD44-A03411A4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7D6-66A5-497D-B2C2-399B23F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25C-0A7F-4A44-BCF3-8D6CBB27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345-B8FD-4D42-B502-4043695C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3AC-DDFA-46AD-9FE0-E2A53324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61A-A00A-4621-958F-E5F527CC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BD7-1693-46B4-8674-21D6769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619-5DB8-475C-AE60-B118B69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FB1-24B5-447E-889E-CD9445C35E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6120-B0C5-4DE0-AB8D-34BA5B030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mic Sans MS"/>
              </a:rPr>
              <a:t>Historia de las empresa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20920"/>
            <a:ext cx="770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3280" y="3933720"/>
            <a:ext cx="4238640" cy="270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743280" cy="2165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581200" cy="2708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364000" y="1268280"/>
            <a:ext cx="2737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mic Sans MS"/>
              </a:rPr>
              <a:t>Expansió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10240" cy="455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4248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Impacto internaciona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356000" cy="4190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Crítica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284720" cy="3000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11640" y="1341360"/>
            <a:ext cx="403236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ervicios que ofrece el Facebook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419640" cy="3326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851280" y="2421000"/>
            <a:ext cx="4716360" cy="443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3567240"/>
            <a:ext cx="33480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Facebook en la actualidad, en números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ff"/>
                </a:solidFill>
                <a:latin typeface="Arial"/>
              </a:rPr>
              <a:t>Como crear una cuenta de facebook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24000" y="2492280"/>
          <a:ext cx="39877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92280"/>
                    <a:ext cx="39877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5:56Z</dcterms:created>
  <dc:creator>WinSP3_PRO</dc:creator>
  <dc:description/>
  <dc:language>en-US</dc:language>
  <cp:lastModifiedBy>Proyecto Medusa</cp:lastModifiedBy>
  <dcterms:modified xsi:type="dcterms:W3CDTF">2009-12-03T13:25:07Z</dcterms:modified>
  <cp:revision>3</cp:revision>
  <dc:subject/>
  <dc:title>Diapositiva 1</dc:title>
</cp:coreProperties>
</file>